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982-93B4-41FC-AF15-6D541FF0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A1C-7D28-4F04-8C2E-6CD69062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156-73CD-4ED7-B9B3-56728B9B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516-9D02-4F17-8EF2-EF0774E5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833-2A9B-4DEB-9335-E3D38015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D89-1243-497D-9554-25F6A769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3F6-B5F3-429A-B230-1CDCF40A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E42-3CEE-43F3-9C49-70831D6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4EC-3F11-44F8-9BFB-13E0CA4B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5F7-6323-4EF0-AE4B-201C94B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9F2-3542-4AD6-A09F-D0AC97C7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5A63-BD99-4322-AC25-983C073B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8056-8BDB-46A9-827D-BE08E71CEA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91856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"/>
              </a:rPr>
              <a:t>Sigma sol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Permutations and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78544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.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d) The 5 girls stan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The options are: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GGGGG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BB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4!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GGGGG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B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=&gt;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5!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4!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GGGGG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5!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4!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B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GGGGG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5!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4!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BB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GGGGG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5!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4!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So total number of poss arrngmts     =    5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!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 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=  </a:t>
            </a:r>
            <a:r>
              <a:rPr b="1" lang="en-NZ" sz="2400" spc="-1" strike="noStrike" u="sng">
                <a:solidFill>
                  <a:srgbClr val="0000ff"/>
                </a:solidFill>
                <a:uFillTx/>
                <a:latin typeface="Arial"/>
              </a:rPr>
              <a:t>14 400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35712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10. 8 people line up.  How many possible arrangements if shortest can’t be next to talle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Answer  = Number of ways of arranging 8 people –  nbr arrgmts where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shortest </a:t>
            </a:r>
            <a:r>
              <a:rPr b="1" i="1" lang="en-NZ" sz="2200" spc="-1" strike="noStrike">
                <a:solidFill>
                  <a:srgbClr val="ff0000"/>
                </a:solidFill>
                <a:latin typeface="Arial"/>
              </a:rPr>
              <a:t>is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beside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 tall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 u="sng">
                <a:solidFill>
                  <a:srgbClr val="0000ff"/>
                </a:solidFill>
                <a:uFillTx/>
                <a:latin typeface="Arial"/>
              </a:rPr>
              <a:t>So first need to find number of orders where shortest </a:t>
            </a:r>
            <a:r>
              <a:rPr b="1" i="1" lang="en-NZ" sz="2200" spc="-1" strike="noStrike" u="sng">
                <a:solidFill>
                  <a:srgbClr val="0000ff"/>
                </a:solidFill>
                <a:uFillTx/>
                <a:latin typeface="Arial"/>
              </a:rPr>
              <a:t>is</a:t>
            </a:r>
            <a:r>
              <a:rPr b="0" lang="en-NZ" sz="2200" spc="-1" strike="noStrike" u="sng">
                <a:solidFill>
                  <a:srgbClr val="0000ff"/>
                </a:solidFill>
                <a:uFillTx/>
                <a:latin typeface="Arial"/>
              </a:rPr>
              <a:t> beside talles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To find this, treat them as an inseparable pair.  So now it’s like there are 7 people (6 people + an inseparable pair (shortest &amp; talle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There are 7! ways of arranging 7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However, this must be doubled.  Wh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Because there are </a:t>
            </a:r>
            <a:r>
              <a:rPr b="1" i="1" lang="en-NZ" sz="2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 possible orders for our inseparable pair:  shortest then tallest, or tallest then short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So nbr arrngmts where shortest </a:t>
            </a:r>
            <a:r>
              <a:rPr b="1" i="1" lang="en-NZ" sz="22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beside tallest = 2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× 7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Answer  = Number of ways of arranging 8 people –  nbr arrgmts where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shortest </a:t>
            </a:r>
            <a:r>
              <a:rPr b="1" i="1" lang="en-NZ" sz="2200" spc="-1" strike="noStrike">
                <a:solidFill>
                  <a:srgbClr val="ff0000"/>
                </a:solidFill>
                <a:latin typeface="Arial"/>
              </a:rPr>
              <a:t>is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beside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 talle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=  8!       –       2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× 7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200" spc="-1" strike="noStrike" u="sng">
                <a:solidFill>
                  <a:srgbClr val="ff0000"/>
                </a:solidFill>
                <a:uFillTx/>
                <a:latin typeface="Arial"/>
              </a:rPr>
              <a:t>30 240 ways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11. In how many ways can a rowing 8 be made up from 4 North Islanders and 4 South Island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If there are no restrictions on seat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Nbr ways = </a:t>
            </a:r>
            <a:r>
              <a:rPr b="0" lang="en-NZ" sz="22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2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= 8! = </a:t>
            </a:r>
            <a:r>
              <a:rPr b="1" lang="en-NZ" sz="2200" spc="-1" strike="noStrike" u="sng">
                <a:solidFill>
                  <a:srgbClr val="ff0000"/>
                </a:solidFill>
                <a:uFillTx/>
                <a:latin typeface="Arial"/>
              </a:rPr>
              <a:t>40 320 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(b) If all the South Islanders sit at the fro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Nbr ways =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Nbr ways of arnging 4 </a:t>
            </a:r>
            <a:r>
              <a:rPr b="0" lang="en-NZ" sz="25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ers at fron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ways of arnging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NZ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ers a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4!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576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rth and South Islanders must alternate sea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Must be either:  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or 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otal nbr way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nbr ways of getting  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+ nbr ways 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!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× 4!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+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!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× 4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1152 way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12. How many different 8-letter words can be formed from the letters of the word ‘binomial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200" spc="-1" strike="noStrike">
                <a:solidFill>
                  <a:srgbClr val="ff0000"/>
                </a:solidFill>
                <a:latin typeface="Times New Roman"/>
              </a:rPr>
              <a:t>B I N O M I A 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8 letters so all possible arrangements would be 8! (i.e. </a:t>
            </a:r>
            <a:r>
              <a:rPr b="0" lang="en-NZ" sz="2200" spc="-1" strike="noStrike" baseline="30000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However there are 2 I’s.  All the letters must be used for each arrangement (8-letter words), so both I’s will be present in all 8! possible arran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Think of it as B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N O M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A 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8! is the number of arrangements if the order of the 2 I’s (i.e. which comes first and which comes second) is relev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In reality this is </a:t>
            </a:r>
            <a:r>
              <a:rPr b="0" lang="en-NZ" sz="2200" spc="-1" strike="noStrike" u="sng">
                <a:solidFill>
                  <a:srgbClr val="0000ff"/>
                </a:solidFill>
                <a:uFillTx/>
                <a:latin typeface="Times New Roman"/>
              </a:rPr>
              <a:t>irrelevant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– it makes no difference which I occurs first in the word.  They’re both the sam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(e.g. B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N O M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A L is the same as B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N O M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A 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We must therefore </a:t>
            </a:r>
            <a:r>
              <a:rPr b="0" lang="en-NZ" sz="2200" spc="-1" strike="noStrike" u="sng">
                <a:solidFill>
                  <a:srgbClr val="ff0000"/>
                </a:solidFill>
                <a:uFillTx/>
                <a:latin typeface="Times New Roman"/>
              </a:rPr>
              <a:t>halve</a:t>
            </a: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 the number of arrangements, so the final answer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br of  ways of arranging BINOM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nto an 8-letter word without consecutive I’s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00"/>
                </a:solidFill>
                <a:latin typeface="Arial"/>
              </a:rPr>
              <a:t>12. How many different 8-letter words can be formed from the letters of the word ‘binomial’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NZ" sz="2200" spc="-1" strike="noStrike">
                <a:solidFill>
                  <a:srgbClr val="ff0000"/>
                </a:solidFill>
                <a:latin typeface="Times New Roman"/>
              </a:rPr>
              <a:t>B I N O M I A 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8 letters so all possible arrangements would be 8! (i.e. </a:t>
            </a:r>
            <a:r>
              <a:rPr b="0" lang="en-NZ" sz="2200" spc="-1" strike="noStrike" baseline="30000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However there are 2 I’s.  All the letters must be used for each arrangement (8-letter words), so both I’s will be present in all 8! possible arrang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Think of it as B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N O M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A 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8! is the number of arrangements if the order of the 2 I’s (i.e. which comes first and which comes second) is relev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In reality this is </a:t>
            </a:r>
            <a:r>
              <a:rPr b="0" lang="en-NZ" sz="2200" spc="-1" strike="noStrike" u="sng">
                <a:solidFill>
                  <a:srgbClr val="0000ff"/>
                </a:solidFill>
                <a:uFillTx/>
                <a:latin typeface="Times New Roman"/>
              </a:rPr>
              <a:t>irrelevant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– it makes no difference which I occurs first in the word.  They’re both the sam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(e.g. B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N O M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A L is the same as B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N O M I</a:t>
            </a:r>
            <a:r>
              <a:rPr b="0" lang="en-NZ" sz="2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NZ" sz="2200" spc="-1" strike="noStrike">
                <a:solidFill>
                  <a:srgbClr val="0000ff"/>
                </a:solidFill>
                <a:latin typeface="Times New Roman"/>
              </a:rPr>
              <a:t> A 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We must therefore </a:t>
            </a:r>
            <a:r>
              <a:rPr b="0" lang="en-NZ" sz="2200" spc="-1" strike="noStrike" u="sng">
                <a:solidFill>
                  <a:srgbClr val="ff0000"/>
                </a:solidFill>
                <a:uFillTx/>
                <a:latin typeface="Times New Roman"/>
              </a:rPr>
              <a:t>halve</a:t>
            </a:r>
            <a:r>
              <a:rPr b="0" lang="en-NZ" sz="2200" spc="-1" strike="noStrike">
                <a:solidFill>
                  <a:srgbClr val="ff0000"/>
                </a:solidFill>
                <a:latin typeface="Times New Roman"/>
              </a:rPr>
              <a:t> the number of arrangements, so the final answer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br of  ways of arranging BINOM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nto an 8-letter word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=  8! ÷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=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20 160 ways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5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*13.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NZ" sz="2000" spc="-1" strike="noStrike">
                <a:solidFill>
                  <a:srgbClr val="000000"/>
                </a:solidFill>
                <a:latin typeface="Arial"/>
              </a:rPr>
              <a:t>Excellence level)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How many ways can a path be laid in a straight line using 7 brick paving stones, 4 concrete slabs and 5 slate tiles (all are the same siz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2340000" y="2174760"/>
                <a:ext cx="62643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r of ways of arranging all 16 slab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ways of arranging the slabs within their typ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Text Box 5"/>
          <p:cNvSpPr/>
          <p:nvPr/>
        </p:nvSpPr>
        <p:spPr>
          <a:xfrm>
            <a:off x="0" y="2205000"/>
            <a:ext cx="2411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otal nbr of way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2484360" y="3284640"/>
                <a:ext cx="15829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7</m:t>
                        </m:r>
                        <m:r>
                          <m:t xml:space="preserve">!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!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Text Box 7"/>
          <p:cNvSpPr/>
          <p:nvPr/>
        </p:nvSpPr>
        <p:spPr>
          <a:xfrm>
            <a:off x="2000160" y="4572000"/>
            <a:ext cx="31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1 441 440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4. Gareth is arranging his magazines in order on the shelf: 3 surfing mags (S), 7 computer mags (C), 5 rugby league mags (R).  In how many ways can the mags be arranged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 restri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’re just arranging 15 different mags,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gardless of 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s is different from Q13 because (unlike the paving stones) every item is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(i.e. no 2 magazines are the same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4. Gareth is arranging his magazines in order on the shelf: 3 surfing mags (S), 7 computer mags (C), 5 rugby league mags (R).  In how many ways can the mags be arranged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 restri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’re just arranging 15 different mags,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gardless of typ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s is different from Q13 because (unlike the paving stones) every item is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(i.e. no 2 magazines are the same).  Thus we can simply treat the 15 magazines 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5 different objec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eing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rrange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  We can forget about type (i.e. S, C or 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:  15! (i.e.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 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.308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× 10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"/>
                <a:ea typeface="Times New Roman"/>
              </a:rPr>
              <a:t>12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way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to 3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4.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 The magazines of each type stay together as a gro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 options are: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4.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 The magazines of each type stay together as a gro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 options are: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R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R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R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R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R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R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&gt;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3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990000"/>
                </a:solidFill>
                <a:latin typeface="Arial"/>
              </a:rPr>
              <a:t>7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6600"/>
                </a:solidFill>
                <a:latin typeface="Arial"/>
              </a:rPr>
              <a:t>5!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So there are 6 </a:t>
            </a:r>
            <a:r>
              <a:rPr b="0" i="1" lang="en-NZ" sz="2200" spc="-1" strike="noStrike">
                <a:solidFill>
                  <a:srgbClr val="ff0000"/>
                </a:solidFill>
                <a:latin typeface="Comic Sans MS"/>
              </a:rPr>
              <a:t>(or 3!)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 different possible orders of the 3 grou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So total nbr of arngmts possible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3!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7!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5!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21 772 800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. 8.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ge 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5. Christmas street parade:  3 Pipe Bands, 5 Floats &amp; 2 Clow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possible arrangements for the pa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Like with 14(a), we’re just arranging all of the objects, regardless of typ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In this case it is 10 different items in a parade.  We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Comic Sans MS"/>
              </a:rPr>
              <a:t>don’t</a:t>
            </a: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 need to worry about type (i.e. bands, floats, or clown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:  10! (i.e.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628 800 way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52280" y="4952880"/>
            <a:ext cx="878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 The pipe bands comes first &amp; the clowns are placed l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5. Christmas street parade:  3 Pipe Bands, 5 Floats &amp; 2 Clow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possible arrangements for the pa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Like with 14(a), we’re just arranging all of the objects, regardless of typ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In this case it is 10 different items in a parade.  We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Comic Sans MS"/>
              </a:rPr>
              <a:t>don’t</a:t>
            </a: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 need to worry about type (i.e. bands, floats, or clown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:  10! (i.e.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628 800 way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52280" y="4952880"/>
            <a:ext cx="878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 The pipe bands comes first &amp; the clowns are placed l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Must be: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3P, 5F, 2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5. Christmas street parade:  3 Pipe Bands, 5 Floats &amp; 2 Clow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possible arrangements for the par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Like with 14(a), we’re just arranging all of the objects, regardless of typ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In this case it is 10 different items in a parade.  We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Comic Sans MS"/>
              </a:rPr>
              <a:t>don’t</a:t>
            </a: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 need to worry about type (i.e. bands, floats, or clown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swer:  10! (i.e.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=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628 800 way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2280" y="4952880"/>
            <a:ext cx="878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 The pipe bands comes first &amp; the clowns are placed l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Must be: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3P, 5F, 2C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 = 3!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5!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2!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1440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54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. Horse trainer: 9 horses, 4 joc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3024 ways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. EQUATIONS:  How many words with 4 letters, each used jus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3024 ways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. Hotel room: 4 people assigned to 16 different 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16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43 680 way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. RHOMBUS: How many different 5-letter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ast letter always “u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u” is fixed at the end ( _ _ _ _ u ), so think of it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In how many ways can you arrange RHOMBS into 4-letter wo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360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. Gambler A bets on winner &amp; 2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;  Gambler B bets on winner, 2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&amp; 3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8 horses in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ets in $1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Gambler A outlay = $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nbr possible arrangement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$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$3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Gambler B outlay = $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nbr possible arrangement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$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$48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7. In how many ways can 4 bollards &amp; a child be arranged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a) The child is on one 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The child could be on either end, then, for each of those, the 4 bollards could be arranged in 4! different w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arrangements of bollard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Nbr possible positions for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×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4!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48 ways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OR, using the multiplication principle: 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4×3×2×1×1 =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8 way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b) The child is NOT on one 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Must be a bollard on both ends then.  Child could be in any of the three positions in betw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br arrangements of bollard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Nbr possible positions for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×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4!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72 ways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. How many words with 3 letters can be formed from NORMAL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without repeat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given t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 The letter n must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” is guaranteed so don’t need to select it, but it could be in 3 possible 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Nbr ways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le arrangements of 2 letters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from O R M A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nbr possible positions fo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i="1" lang="en-NZ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NZ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=  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60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 The letter n must not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Nbr ways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le arrangements of 3 letters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from O R M A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i="1" lang="en-NZ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i="1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=  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60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9. 5 girls &amp; 4 boys standing in line.  How many ways of arranging them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a) They can stand in any posi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ways = Number of possible arrangements of </a:t>
            </a:r>
            <a:r>
              <a:rPr b="0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all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0" lang="en-NZ" sz="20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000" spc="-1" strike="noStrike" baseline="-25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or 9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362 880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b) Shortest girl stands at one 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 ways = Number of possible positions for shortest gi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number of poss arrangements of the other 8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2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8!  (the “2” is because the girl could be at either 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80 640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c) Each pair of girls has a boy in between (alternat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Must be GBGBGBGBG so, using the multiplication princi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Number of ways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4 ×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× 3 ×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× 2 ×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× 1 ×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5!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× 4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2880 ways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.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d) The 5 girls stan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The options are: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 8.02 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.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d) The 5 girls stan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The options are: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GGGGG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BBBB 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3:37:48Z</dcterms:created>
  <dc:creator>Jeremy Brocklehurst</dc:creator>
  <dc:description/>
  <dc:language>en-US</dc:language>
  <cp:lastModifiedBy>Jeremy Brocklehurst</cp:lastModifiedBy>
  <dcterms:modified xsi:type="dcterms:W3CDTF">2011-04-07T23:08:10Z</dcterms:modified>
  <cp:revision>60</cp:revision>
  <dc:subject>Year 13 Statistics &amp; Modelling</dc:subject>
  <dc:title>Sigma solutions</dc:title>
</cp:coreProperties>
</file>